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AAE-B43B-4842-AF27-A507A01B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ABD-4DF6-4445-91A9-33A01648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1D6-BB34-4EAA-A100-CA4E3BED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E30-47E5-43BB-ACC5-D94001F8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F5FD-38CC-4A8A-8B69-A85BC0E1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2B31-E5BD-44E0-805B-3FAD4AF0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262D-FDC1-4E8E-BA23-5D5244C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0E17-B404-4ADC-97C4-B70CBD50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F222-287A-4014-BD5F-4F71D824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794C-CCA5-4EF1-BA42-F68DAE94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06B5-79CE-475D-BC65-94A6D913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CCFD-FDC1-4048-8300-EC4E9818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3FA8-9AAD-4E81-9B6F-BC4B414E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9D37-560E-40B7-B34D-8335F1CE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D3EF-2099-46EA-A07D-9096330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5962-123B-4E87-9C7E-8D50C846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38E1-C5D0-48CA-9435-79FDEE8E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CF79-4CB3-4D79-8EB7-53AEB9A5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A097-E8D1-4079-891A-8344835D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761-7478-4DF3-86AD-43BB1494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3613-9B39-40E1-82D9-9B5AFE9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DE8-EEDC-4C55-A631-028B9AB4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8AE-32B1-47B6-BF8B-ED6D3A37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3789-F7E7-47F9-946E-3E9AE60C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47D4-F728-4F41-B5EE-D6AF33C9D57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C812-55A1-494F-A9DB-EA5C2735403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36000" y="5589720"/>
            <a:ext cx="172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7-ZIP </a:t>
            </a:r>
            <a:r>
              <a:rPr b="0" lang="zh-TW" sz="20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教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02240" y="609300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8680" y="3292560"/>
            <a:ext cx="164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文化大學資管系碩士學分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42760" y="3782160"/>
            <a:ext cx="23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數位教材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(Freeware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36960" y="4522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指導老師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鄒景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36960" y="4954680"/>
            <a:ext cx="12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學生姓名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劉正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83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7-ZIP 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安裝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605628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下一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226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Notepad++</a:t>
            </a: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教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使用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236000" y="558972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回目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38400" y="1295280"/>
            <a:ext cx="66672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02:31:19Z</dcterms:created>
  <dc:creator>DAXIONG</dc:creator>
  <dc:description/>
  <dc:language>en-US</dc:language>
  <cp:lastModifiedBy>DAXIONG</cp:lastModifiedBy>
  <dcterms:modified xsi:type="dcterms:W3CDTF">2011-01-22T03:21:54Z</dcterms:modified>
  <cp:revision>11</cp:revision>
  <dc:subject/>
  <dc:title>投影片 1</dc:title>
</cp:coreProperties>
</file>